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153-618D-4D3F-AC66-B208AC14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9AE-5C13-4960-A8A6-3BBFB0A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4AA-1705-4B07-8067-24DDF16A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B3D-AA5A-428D-91A3-E9753D9F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0E95-37AE-4412-8EE8-FA4FDAAE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439F-5F06-414D-B510-A797C637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06F9-4276-4DBD-BEFA-BF7F34A3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F67F-B078-46FF-8275-963B0066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F642-DEE3-455C-9662-0FBA2A44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CB13-46A3-4FC8-90C3-3C2C7E20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A596-289C-4270-A27A-A89742B6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CD8-C1D4-4080-BDD7-7C51D4E9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08F-3A9F-41EC-90D6-68352AC3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6C34-0669-4FB6-9EED-86B5F1D8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E31D-773B-4202-9B90-1FFBB591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B68D-7572-488B-81F2-FFFE5A3C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8765-3623-4571-AC5E-1C8D1CC3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589-5B96-4C6B-B497-B9AB8B29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5E6-45E3-4035-94A0-C000AEE4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90A-3171-4D17-B654-72F67913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9EC-C920-4283-8B7C-B82D6DDC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EA6-8C6A-497B-8E99-747787A5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CDE-14E1-4422-891A-D80DBA3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3DB-F7EA-421C-A912-4A25419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066680" y="5783400"/>
            <a:ext cx="8077320" cy="1074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4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3D1B-44D6-404F-B342-418BAF07A1D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1522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3E8-0F44-49AA-A8E7-9308CDEC94F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31Z</dcterms:modified>
  <cp:revision>32</cp:revision>
  <dc:subject/>
  <dc:title>幻灯片 1</dc:title>
</cp:coreProperties>
</file>